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F3EF-B324-4888-8C7E-2BEC863FF78E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F45A-F45F-4C4F-B38F-7C445CB48C97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D4E1-3EBD-4C11-94EF-C86B87F36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F4DC-1D37-4CA5-B476-35BF3AA2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C051-A585-476D-841E-953B44D7B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CF89-89AF-4F54-8886-05D26CE79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CE80-8E45-4317-9890-55606160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C76D-CA2B-4DB3-B867-E7E12268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F46E-2B23-4B0C-8DEF-283889BA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AF9C-1BD3-451F-B456-35FA5D6A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2838-BBAB-4FF6-8A3B-D0641AE4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29FA-1F47-4B54-A504-C62D84E3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9EE3-CD7F-4678-A8BF-1CE07AA3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CF97-0C0A-4D42-94F0-54B71266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4B31-2D3D-471B-88D7-025D802A0A56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orientirane.mon.bg/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920" y="1196640"/>
            <a:ext cx="90360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f497d"/>
                </a:solidFill>
                <a:latin typeface="Verdana"/>
              </a:rPr>
              <a:t> </a:t>
            </a:r>
            <a:r>
              <a:rPr b="1" lang="bg-BG" sz="2800" spc="-1" strike="noStrike">
                <a:solidFill>
                  <a:srgbClr val="1f497d"/>
                </a:solidFill>
                <a:latin typeface="Verdana"/>
              </a:rPr>
              <a:t>ПОЛИТИКИ И МЕРКИ </a:t>
            </a:r>
            <a:br>
              <a:rPr sz="2800"/>
            </a:br>
            <a:r>
              <a:rPr b="1" lang="bg-BG" sz="2800" spc="-1" strike="noStrike">
                <a:solidFill>
                  <a:srgbClr val="1f497d"/>
                </a:solidFill>
                <a:latin typeface="Verdana"/>
              </a:rPr>
              <a:t>ЗА РЕАЛИЗИРАНЕ НА НПИЕГМ</a:t>
            </a:r>
            <a:br>
              <a:rPr sz="2800"/>
            </a:br>
            <a:r>
              <a:rPr b="1" lang="bg-BG" sz="2800" spc="-1" strike="noStrike">
                <a:solidFill>
                  <a:srgbClr val="1f497d"/>
                </a:solidFill>
                <a:latin typeface="Verdana"/>
              </a:rPr>
              <a:t>ЧРЕЗ ОБРАЗОВАНИЕТ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2560" y="5516640"/>
            <a:ext cx="72723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Министерство на образованието и наук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София, 30 май 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40796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835280" y="1692360"/>
            <a:ext cx="73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идентифициране на причините за отпадане/напускане на образованието и на групите лица от 15 до 18/19 годишна възраст, застрашени от отпадане/напускан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илагане на система за ранно предупреждение за риск от отпадане от предучилищно и училищно образова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осигуряване на среда за задържане в образование на лица в риск от отпадане – национални програми за развитие на образованиет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осигуряване възможности за образование и обучение във форми, различни от дневната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ts val="25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авоъгълник 2"/>
          <p:cNvSpPr/>
          <p:nvPr/>
        </p:nvSpPr>
        <p:spPr>
          <a:xfrm>
            <a:off x="1979640" y="453960"/>
            <a:ext cx="766908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598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Arial"/>
              </a:rPr>
              <a:t>Мерки и дейности срещу отпадането/напускането на образование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на системата за кариерно ориентиране и консултиране на младите хо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реализиране на обучение чрез работа – „дуално обучение“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създаване на материални условия за професионална квалификация на млади хора, отпаднали или преждевременно напуснали образователната систе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обмен на информация между институциите и  заинтересованите страни  и определяне на „ролите“ и отговорностите на всяка от тя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598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f497d"/>
                </a:solidFill>
                <a:latin typeface="Arial"/>
              </a:rPr>
              <a:t>Мерки и дейности срещу отпадането/напускането на образованиет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79280" y="333360"/>
            <a:ext cx="663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Arial"/>
                <a:ea typeface="Arial"/>
              </a:rPr>
              <a:t>Някои конкретни резултати от политиките и мерките, реализирани от МОН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79280" y="1844640"/>
            <a:ext cx="68612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00000"/>
                </a:solidFill>
                <a:latin typeface="Calibri"/>
              </a:rPr>
              <a:t>модел на система за ранно предупреждение на територията на Северозападния и Югоизточния райони от ниво 2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разработен и въведен за апробиране на модела на територията на Северозападния и Югоизточния райони от ниво 2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ъведен през 2016/2017 учебна година в 9-те области: Видин, Враца, Ловеч, Монтана и Плевен; Бургас, Сливен, Стара Загора и  Ямбо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 19 общини от 9-те области, подбрани СЪВМЕСТНО  от РУО и кметовете на общинит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50 институции в тези общини – СЪВМЕСТНО  от РУО и общините – наблюдават се деца и ученици от 5/6 до 18 819 годишна възрас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едстои през учебната 2017/2018 увеличаване броя на общините до 30, на институциите до 200, вкл. до 50 детски градин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65160" y="1564920"/>
            <a:ext cx="6864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 u="sng">
                <a:solidFill>
                  <a:srgbClr val="000000"/>
                </a:solidFill>
                <a:uFillTx/>
                <a:latin typeface="Calibri"/>
              </a:rPr>
              <a:t>Самостоятелна форма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над 16 годишна възраст -най-висок дял сред формите, извън дневнат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2016/2017 година -записани почти 12 000 душ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2015/2016 учебна година -над 15 300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през 2014/2015 година - над 18 800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 u="sng">
                <a:solidFill>
                  <a:srgbClr val="000000"/>
                </a:solidFill>
                <a:uFillTx/>
                <a:latin typeface="Arial"/>
              </a:rPr>
              <a:t>Задочна форм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учебната 2016/2017 – записани са над 12 600 учениц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две предходни учебни година -между 13 000 и 14 000 душ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 u="sng">
                <a:solidFill>
                  <a:srgbClr val="000000"/>
                </a:solidFill>
                <a:uFillTx/>
                <a:latin typeface="Arial"/>
              </a:rPr>
              <a:t>Вечерна форм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2016/2017 година – записани са близо 4000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2015/2016 – близо 5000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2014/2015 – близо 700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79280" y="259920"/>
            <a:ext cx="66358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Arial"/>
                <a:ea typeface="Arial"/>
              </a:rPr>
              <a:t>Прилагане на форми за обучение, различни от дневната </a:t>
            </a: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(</a:t>
            </a:r>
            <a:r>
              <a:rPr b="1" lang="bg-BG" sz="1800" spc="-1" strike="noStrike">
                <a:solidFill>
                  <a:srgbClr val="1f497d"/>
                </a:solidFill>
                <a:latin typeface="Arial"/>
                <a:ea typeface="Arial"/>
              </a:rPr>
              <a:t>по данни на ЦИОО към 15.09.2017 година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920" y="260280"/>
            <a:ext cx="67183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бучение чрез работа/дуално обучение през учебната 2016/2017 год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08000" y="1341000"/>
            <a:ext cx="7128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4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професионални гимназ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Над 660 ученици са обхванати в дуално обуче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Бургас – 2 ПГ - 48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Варна  - 1 ПГ – 18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Враца – 2 ПГ – 28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Ветово /Русе -1 СУ- 13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Габрово -1 ПГ – 37 души по 2 специалнос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Добрич – 1ПГ – 26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Казанлък/Стара Загора – 1 ПГ -22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Панагюрище/Пазарджик – 1 ПГ -103 души в 8 специалнос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Перник – 1 ПГ -26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Плевен – 1 ПГ – 13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Пловдив – 2 ПГ – 25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Сливен – 2 ПГ – 52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София-град – 4 ПГ – 147 душ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Calibri"/>
              </a:rPr>
              <a:t>Кариерно ориентиране и консулти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По проект „Система за кариерно ориентиране в училище“, ОП РЧР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създаден Национален портал за кариерно ориентиране на учениците –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rientirane.mon.bg –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над 1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100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 000 посетени страници, над 90 000 регистрирани ученици, ползвали информационно-търсещата систем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разкрити, обзаведени и оборудвани 28 центъра за кариерно ориентиране (ЦКО) със седалища в областните административни центров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наети и сертифицирани за дейности по кариерно консултиране 150 кариерни консултанти в 28 ЦКО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включени 535 428 ученици-бенефициенти по проекта (по план -  5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02 779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- 106% изпълнение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създадени са информационни и методически ресурси за работа по кариерно ориентиране с учениците – 80 интерактивни упражнения за учениците от 6 до 12 клас; 30 филми за кариерно ориентиране за учениците от 1 до 12 клас; Каталози с информационни характеристики на професиите и профилите, които се изучават в средното образование; Наръчник на кариерния консултант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f497d"/>
                </a:solidFill>
                <a:latin typeface="Calibri"/>
              </a:rPr>
              <a:t>Кариерно ориентиране и консултира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Стартира Проект „Система за кариерно ориентиране в училищното образование“ – по ОП „Наука и образование за интелигентен растеж“ 2014-2020 – за 120 000 ученици, по който с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разработва, апробира и се прилага модел за кариерно ориентиране на учениците в училище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със заповед на министъра на образованието и науката (м. август 2016 г) - утвърдени 42 пилотни училища  - основни, средни, профилирани и професионални гимназии, специални училища  от 28 административни области за апробиране на темите от Програмата за кариерно ориентиране на учениците на ниво училищ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създава се модул „Училище–пазар на труда“ към Националния портал за кариерно ориентиране (</a:t>
            </a:r>
            <a:r>
              <a:rPr b="1" lang="bg-BG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orientirane.mon.bg</a:t>
            </a: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) за информиране и ориентиране относно възможностите за трудова и професионална реализация за завършващите средно образование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разработват се инструменти за ранно кариерно ориентиране на застрашените от отпадане ученици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адаптират се създадени информационни и диагностични ресурси за кариерно ориентиране за нуждите на ученици със СОП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f497d"/>
                </a:solidFill>
                <a:latin typeface="Calibri"/>
              </a:rPr>
              <a:t>Някои проблем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различните нюанси в определянето на основните понятия и тяхното тълкуван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липсата на надеждна информация за съотношението на регистрираните в службите ГРАОН и реално намиращите са на територията на Р Българ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липсата на информация за децата и учениците „заминали в чужбина“ – продължават ли образованието си или не, те са най-голям брой от категорията „напуснали“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начален етап на изграждане на единен механизъм в процеса на издирване и привличане на отпаднали и/или никога не посещавали училище чрез системата за ранно предупреждение за риск от отпадане от предучилищното и училищното образова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механизмите за комуникация  със семействата и възможностите за коригиране на ценностната им систем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категоричното обвързване на професионална квалификация с реалностите на бизнеса и производството, повече ангажираност от бизнес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f497d"/>
                </a:solidFill>
                <a:latin typeface="Calibri"/>
              </a:rPr>
              <a:t>…</a:t>
            </a:r>
            <a:r>
              <a:rPr b="1" lang="bg-BG" sz="2000" spc="-1" strike="noStrike">
                <a:solidFill>
                  <a:srgbClr val="1f497d"/>
                </a:solidFill>
                <a:latin typeface="Calibri"/>
              </a:rPr>
              <a:t>и перспективите за решаван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Calibri"/>
              </a:rPr>
              <a:t>Постепенното въвеждане на територията на страната на системата за ранно предупреждение кат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ъзможност за идентифициране на конкретните лица в риск и отпадналите от конкретната институция, дефиниране на риска и определяне на конкретна програма с конкретни отговорници и срокове за точно това дете/ученик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следяване в реално време развитието на това дете/ученик; ефективността на предприетите мерки и възможностите за коригирането им; движението от една в друга институци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Calibri"/>
              </a:rPr>
              <a:t>Засилване ролята на дуалното обучение з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ивличането и задържането в професионално обучение и квалификация с перспектива за рабо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нгажирането на бизнеса с процеса на квалификация на кадри според неговите изисквания и потребности – наемане на рабо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Специалности, които се търсят и са конкурентноспособни на пазара на труд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1f497d"/>
                </a:solidFill>
                <a:latin typeface="Arial"/>
                <a:ea typeface="Arial"/>
              </a:rPr>
              <a:t>Законодателна рам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35280" y="1600200"/>
            <a:ext cx="68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Закон за предучилищното и училищното образовани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Държавни образователни стандарт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Закон за професионалното образование и обучени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Закон за закрила на детет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ts val="25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ts val="25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0560" y="836640"/>
            <a:ext cx="7021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1f497d"/>
                </a:solidFill>
                <a:latin typeface="Arial"/>
                <a:ea typeface="Times New Roman"/>
              </a:rPr>
              <a:t>Стратегическа рам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35280" y="2204640"/>
            <a:ext cx="7129440" cy="43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Стратегия за намаляване дела на преждевременно напусналите образователната система – 2013-2020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Стратегия за развитие на професионалното образование и обучение в Р България за периода 2015-2020 година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Планове за изпълнение на стратегическите документ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080" y="476280"/>
            <a:ext cx="871380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ЕТЕН КОЕФИЦИЕНТ НА ЗАПИСВАНЕ НА НАСЕЛЕНИЕТО В ОБРАЗОВАТЕЛНАТА СИСТЕМА - НС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50920" y="1413000"/>
          <a:ext cx="8713800" cy="5392440"/>
        </p:xfrm>
        <a:graphic>
          <a:graphicData uri="http://schemas.openxmlformats.org/drawingml/2006/table">
            <a:tbl>
              <a:tblPr/>
              <a:tblGrid>
                <a:gridCol w="3162240"/>
                <a:gridCol w="1425600"/>
                <a:gridCol w="1349280"/>
                <a:gridCol w="1425600"/>
                <a:gridCol w="1351080"/>
              </a:tblGrid>
              <a:tr h="687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2013/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2014/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2015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2016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685800">
                <a:tc gridSpan="5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Групови нетни коефициенти</a:t>
                      </a:r>
                      <a:r>
                        <a:rPr b="1" lang="ru-RU" sz="1800" spc="-1" strike="noStrike" baseline="30000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 по степени на образованието според МСКО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7240">
                <a:tc>
                  <a:txBody>
                    <a:bodyPr lIns="1144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Предучилищно образование (МСКО-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7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98760">
                <a:tc>
                  <a:txBody>
                    <a:bodyPr lIns="1144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Начално образование (I-IV клас‚ МСКО-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9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9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9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9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855720">
                <a:tc>
                  <a:txBody>
                    <a:bodyPr lIns="1144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Прогимназиално образование (V-VIII клас‚ МСКО-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79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7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7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7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922320">
                <a:tc>
                  <a:txBody>
                    <a:bodyPr lIns="1144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Средно образование (IX-XIII клас‚ МСКО-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855360">
                <a:tc gridSpan="5">
                  <a:txBody>
                    <a:bodyPr lIns="1144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800" spc="-1" strike="noStrike" baseline="30000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ru-RU" sz="1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Груповите коефициенти са изчислени в проценти като отношение на броя на учащите по степени във възрастовите групи 3-6‚ 7-10‚ 11-14‚ 15-18‚ 19-20‚ 19-21 и 19-23 години към броя на населението в същите възрастови груп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8036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f497d"/>
                </a:solidFill>
                <a:latin typeface="Calibri"/>
              </a:rPr>
              <a:t>Дял по напусналите образователната система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,</a:t>
            </a:r>
            <a:r>
              <a:rPr b="1" lang="bg-BG" sz="2200" spc="-1" strike="noStrike">
                <a:solidFill>
                  <a:srgbClr val="1f497d"/>
                </a:solidFill>
                <a:latin typeface="Calibri"/>
              </a:rPr>
              <a:t> по причини – от НСИ за последните 3 учебни години –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2013</a:t>
            </a:r>
            <a:r>
              <a:rPr b="1" lang="bg-BG" sz="2200" spc="-1" strike="noStrike">
                <a:solidFill>
                  <a:srgbClr val="1f497d"/>
                </a:solidFill>
                <a:latin typeface="Calibri"/>
              </a:rPr>
              <a:t>/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14 </a:t>
            </a:r>
            <a:r>
              <a:rPr b="1" lang="bg-BG" sz="2200" spc="-1" strike="noStrike">
                <a:solidFill>
                  <a:srgbClr val="1f497d"/>
                </a:solidFill>
                <a:latin typeface="Calibri"/>
              </a:rPr>
              <a:t>до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 2015</a:t>
            </a:r>
            <a:r>
              <a:rPr b="1" lang="bg-BG" sz="2200" spc="-1" strike="noStrike">
                <a:solidFill>
                  <a:srgbClr val="1f497d"/>
                </a:solidFill>
                <a:latin typeface="Calibri"/>
              </a:rPr>
              <a:t>/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201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Content Placeholder 3"/>
          <p:cNvGraphicFramePr/>
          <p:nvPr/>
        </p:nvGraphicFramePr>
        <p:xfrm>
          <a:off x="128520" y="1865160"/>
          <a:ext cx="8886960" cy="492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865160"/>
                    <a:ext cx="8886960" cy="49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1f497d"/>
                </a:solidFill>
                <a:latin typeface="Calibri"/>
              </a:rPr>
              <a:t>Дял на напусналите по причини – гимназиална степ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Calibri"/>
              </a:rPr>
              <a:t>Тенденции през последните три учебни годин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най-висок дял на напусналите – по семейни причини  - </a:t>
            </a:r>
            <a:r>
              <a:rPr b="0" lang="bg-BG" sz="2400" spc="-1" strike="noStrike">
                <a:solidFill>
                  <a:srgbClr val="ff0000"/>
                </a:solidFill>
                <a:latin typeface="Calibri"/>
              </a:rPr>
              <a:t>49%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през 2013/2014; </a:t>
            </a:r>
            <a:r>
              <a:rPr b="0" lang="bg-BG" sz="2400" spc="-1" strike="noStrike">
                <a:solidFill>
                  <a:srgbClr val="ff0000"/>
                </a:solidFill>
                <a:latin typeface="Calibri"/>
              </a:rPr>
              <a:t>47%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- 2014/2015; </a:t>
            </a:r>
            <a:r>
              <a:rPr b="0" lang="bg-BG" sz="2400" spc="-1" strike="noStrike">
                <a:solidFill>
                  <a:srgbClr val="ff0000"/>
                </a:solidFill>
                <a:latin typeface="Calibri"/>
              </a:rPr>
              <a:t>42%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- 2015/2016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следва – поради нежелание – дял между </a:t>
            </a:r>
            <a:r>
              <a:rPr b="0" lang="bg-BG" sz="2400" spc="-1" strike="noStrike">
                <a:solidFill>
                  <a:srgbClr val="c0504d"/>
                </a:solidFill>
                <a:latin typeface="Calibri"/>
              </a:rPr>
              <a:t>25%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до </a:t>
            </a:r>
            <a:r>
              <a:rPr b="0" lang="bg-BG" sz="2400" spc="-1" strike="noStrike">
                <a:solidFill>
                  <a:srgbClr val="c0504d"/>
                </a:solidFill>
                <a:latin typeface="Calibri"/>
              </a:rPr>
              <a:t>27%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през последната учебна годин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9537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953735"/>
                </a:solidFill>
                <a:latin typeface="Calibri"/>
              </a:rPr>
              <a:t>21%, 20% 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bg-BG" sz="2400" spc="-1" strike="noStrike">
                <a:solidFill>
                  <a:srgbClr val="953735"/>
                </a:solidFill>
                <a:latin typeface="Calibri"/>
              </a:rPr>
              <a:t>24% 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- заминали в чужб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28036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Дял на преждевременно напусналите образователната система за периода  2013-2016г.</a:t>
            </a:r>
            <a:br>
              <a:rPr sz="2000"/>
            </a:b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 сравнение на стойностите му за България със средните за ЕС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Content Placeholder 3"/>
          <p:cNvGraphicFramePr/>
          <p:nvPr/>
        </p:nvGraphicFramePr>
        <p:xfrm>
          <a:off x="-50760" y="1938240"/>
          <a:ext cx="9137520" cy="471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1938240"/>
                    <a:ext cx="9137520" cy="47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713800" cy="115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70c0"/>
                </a:solidFill>
                <a:latin typeface="Calibri"/>
              </a:rPr>
              <a:t>Дял на преждевременно напусналите образователната система за 201</a:t>
            </a:r>
            <a:r>
              <a:rPr b="1" lang="bg-BG" sz="2400" spc="-1" strike="noStrike">
                <a:solidFill>
                  <a:srgbClr val="4f81bd"/>
                </a:solidFill>
                <a:latin typeface="Calibri"/>
              </a:rPr>
              <a:t>5 г.  и за 2016  г. </a:t>
            </a:r>
            <a:r>
              <a:rPr b="1" lang="bg-BG" sz="2400" spc="-1" strike="noStrike">
                <a:solidFill>
                  <a:srgbClr val="0070c0"/>
                </a:solidFill>
                <a:latin typeface="Calibri"/>
              </a:rPr>
              <a:t>по райони на планиране в Р Бълга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Content Placeholder 7"/>
          <p:cNvGraphicFramePr/>
          <p:nvPr/>
        </p:nvGraphicFramePr>
        <p:xfrm>
          <a:off x="200160" y="1577880"/>
          <a:ext cx="881532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Content Placeholder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1577880"/>
                    <a:ext cx="881532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f497d"/>
                </a:solidFill>
                <a:latin typeface="Calibri"/>
              </a:rPr>
              <a:t>Основни политики за изпълнение на НПИЕГ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намаляване дела на отпадналите/напусналите образователната систе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намаляване дела на преждевременно напусналите образователната систе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подобряване качеството на образованието с акцент върху професионалното образование, обучение и професионална квалификация  на лицата в риск от отпадане и преждевременно напуснатите  образователната систе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подобряване на връзките и взаимодействието между институциите и другите заинтересовани страни в системата на образованието за задържане/повторно обхващане в обучение, образование, квалификац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19:05:51Z</dcterms:created>
  <dc:creator>User</dc:creator>
  <dc:description/>
  <dc:language>en-US</dc:language>
  <cp:lastModifiedBy>Iskren Angelov</cp:lastModifiedBy>
  <cp:lastPrinted>2017-05-29T06:32:15Z</cp:lastPrinted>
  <dcterms:modified xsi:type="dcterms:W3CDTF">2017-07-11T17:49:40Z</dcterms:modified>
  <cp:revision>163</cp:revision>
  <dc:subject/>
  <dc:title>PRESENTATION  NAME</dc:title>
</cp:coreProperties>
</file>